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292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457A5-47E9-45CA-BC39-A96FBF3E22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D486C-F633-4668-9D41-36E6F77AE8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07F4-9B58-4C69-ADAD-7582C69333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1669F-F18C-4B1C-A407-CF6B8FF57D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1DB58-C10D-4525-B4C0-68C930A818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83C1-3033-40DF-9011-A879BCFCFB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E618-3DE5-47ED-AA88-32CDCA51C8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FB99C-799F-4851-8374-64CD21B4C1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00AFD-A111-4180-BCF2-1E91C571A1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A930-B39D-49CA-9F7F-9DA909CCA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177C-CAE9-42CE-B620-90CE4834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7D96-B07E-434B-823A-5E28581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F106-D17E-466D-AAC3-8D160F498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87E6-8CFC-487C-9603-1E38B90D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D250-99DE-4F5D-ACB0-61DAA50F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A10E-5E05-47DA-A453-24FEB8E8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0560-618B-47FD-ABF7-31CC560C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0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2A1F-D124-4CBB-990D-CBA5DB75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D94F-3857-402B-95BF-3F6F1F08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FA19-82CB-4444-8ABA-37F8DB6D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C09F-05CF-4EBD-BE5E-9BF7B64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DF72DE-ADA1-44C4-B073-112FBDA6449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FLORES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4920" y="1274760"/>
            <a:ext cx="79581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de las gimnospermas se agrupan generalmente e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co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suelen presentar las siguientes 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on flores poco vistosas que carecen de cáliz y  de coro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uelen ser unisexuales, con lo que hay conos masculinos y conos femen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lores y c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4089600" cy="2670120"/>
          </a:xfrm>
          <a:prstGeom prst="rect">
            <a:avLst/>
          </a:prstGeom>
          <a:ln w="0">
            <a:noFill/>
          </a:ln>
        </p:spPr>
      </p:pic>
      <p:sp>
        <p:nvSpPr>
          <p:cNvPr id="74" name="Line 11"/>
          <p:cNvSpPr/>
          <p:nvPr/>
        </p:nvSpPr>
        <p:spPr>
          <a:xfrm flipV="1">
            <a:off x="1332000" y="551628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184640" cy="2767320"/>
          </a:xfrm>
          <a:prstGeom prst="rect">
            <a:avLst/>
          </a:prstGeom>
          <a:ln w="0">
            <a:noFill/>
          </a:ln>
        </p:spPr>
      </p:pic>
      <p:sp>
        <p:nvSpPr>
          <p:cNvPr id="76" name="Line 13"/>
          <p:cNvSpPr/>
          <p:nvPr/>
        </p:nvSpPr>
        <p:spPr>
          <a:xfrm flipH="1" flipV="1">
            <a:off x="6372360" y="5516640"/>
            <a:ext cx="71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492360" y="58770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8 Conector recto"/>
          <p:cNvSpPr/>
          <p:nvPr/>
        </p:nvSpPr>
        <p:spPr>
          <a:xfrm flipV="1">
            <a:off x="4140360" y="4221000"/>
            <a:ext cx="100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9 Conector recto"/>
          <p:cNvSpPr/>
          <p:nvPr/>
        </p:nvSpPr>
        <p:spPr>
          <a:xfrm flipH="1" flipV="1">
            <a:off x="3059280" y="5445000"/>
            <a:ext cx="1063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940360" y="602136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s masculi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566100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femeni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onos masculi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6264360" cy="251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229428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onos femeni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5321520" cy="3444840"/>
          </a:xfrm>
          <a:prstGeom prst="rect">
            <a:avLst/>
          </a:prstGeom>
          <a:ln w="0">
            <a:noFill/>
          </a:ln>
        </p:spPr>
      </p:pic>
      <p:sp>
        <p:nvSpPr>
          <p:cNvPr id="97" name="20 CuadroTexto"/>
          <p:cNvSpPr/>
          <p:nvPr/>
        </p:nvSpPr>
        <p:spPr>
          <a:xfrm>
            <a:off x="1258920" y="53006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22 Conector recto"/>
          <p:cNvSpPr/>
          <p:nvPr/>
        </p:nvSpPr>
        <p:spPr>
          <a:xfrm flipV="1">
            <a:off x="2050920" y="5157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779640" cy="3506760"/>
          </a:xfrm>
          <a:prstGeom prst="rect">
            <a:avLst/>
          </a:prstGeom>
          <a:ln w="0">
            <a:noFill/>
          </a:ln>
        </p:spPr>
      </p:pic>
      <p:sp>
        <p:nvSpPr>
          <p:cNvPr id="100" name="19 Conector recto"/>
          <p:cNvSpPr/>
          <p:nvPr/>
        </p:nvSpPr>
        <p:spPr>
          <a:xfrm flipV="1">
            <a:off x="5076720" y="28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12 Rectángulo"/>
          <p:cNvSpPr/>
          <p:nvPr/>
        </p:nvSpPr>
        <p:spPr>
          <a:xfrm>
            <a:off x="395280" y="1341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conos femeninos forman, al madurar, las piñas, don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 albergan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1:54Z</dcterms:modified>
  <cp:revision>56</cp:revision>
  <dc:subject/>
  <dc:title>Diapositiva 1</dc:title>
</cp:coreProperties>
</file>